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2EF1-5459-46CF-9801-786218418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6C79-F2EE-4E71-B6A9-D6A8FD7D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915A-98E2-4A30-B314-DD09EE722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F367-DE5B-46F8-BF87-00AEFE49A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D09F-B1B2-4519-98C8-F4607960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17B9-909C-4E92-9C3E-CC996A6D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1434-7ABE-4348-B686-EDC8AE72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B143-5632-4369-8544-0C5433E9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0AD5-9206-451A-8E2E-AE29FC15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8BE9-1CC7-4308-8230-4B92D2ED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3C1D-ECEB-4C4B-BA8F-639C7D0A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0459-81AB-4078-980A-88548D20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874A-91B1-4048-9C2C-96578E39A18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umbartonshire Ex Presidents 1"/>
          <p:cNvPicPr/>
          <p:nvPr/>
        </p:nvPicPr>
        <p:blipFill>
          <a:blip r:embed="rId1"/>
          <a:stretch/>
        </p:blipFill>
        <p:spPr>
          <a:xfrm>
            <a:off x="8167680" y="571680"/>
            <a:ext cx="1133640" cy="132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Dumbartonshire Ex Presidents 25th"/>
          <p:cNvPicPr/>
          <p:nvPr/>
        </p:nvPicPr>
        <p:blipFill>
          <a:blip r:embed="rId2"/>
          <a:stretch/>
        </p:blipFill>
        <p:spPr>
          <a:xfrm>
            <a:off x="309600" y="2214720"/>
            <a:ext cx="1352520" cy="15588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0" y="1833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YOKER                                       YOKER                                             YOKER                               YOKER  125TH                              YOKER  150TH                        DUMBARTON  EX  PRESIDENTS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3873600" y="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24 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Yoker 150th"/>
          <p:cNvPicPr/>
          <p:nvPr/>
        </p:nvPicPr>
        <p:blipFill>
          <a:blip r:embed="rId3"/>
          <a:stretch/>
        </p:blipFill>
        <p:spPr>
          <a:xfrm>
            <a:off x="6453360" y="642960"/>
            <a:ext cx="1023840" cy="1170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Yoker 4"/>
          <p:cNvPicPr/>
          <p:nvPr/>
        </p:nvPicPr>
        <p:blipFill>
          <a:blip r:embed="rId4"/>
          <a:stretch/>
        </p:blipFill>
        <p:spPr>
          <a:xfrm>
            <a:off x="3452760" y="78588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Yoker 125th"/>
          <p:cNvPicPr/>
          <p:nvPr/>
        </p:nvPicPr>
        <p:blipFill>
          <a:blip r:embed="rId5"/>
          <a:stretch/>
        </p:blipFill>
        <p:spPr>
          <a:xfrm>
            <a:off x="4881600" y="714240"/>
            <a:ext cx="1071360" cy="1163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Yoker 1.JPG"/>
          <p:cNvPicPr/>
          <p:nvPr/>
        </p:nvPicPr>
        <p:blipFill>
          <a:blip r:embed="rId6"/>
          <a:stretch/>
        </p:blipFill>
        <p:spPr>
          <a:xfrm>
            <a:off x="380880" y="857160"/>
            <a:ext cx="1043280" cy="997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Yoker 2.JPG"/>
          <p:cNvPicPr/>
          <p:nvPr/>
        </p:nvPicPr>
        <p:blipFill>
          <a:blip r:embed="rId7"/>
          <a:stretch/>
        </p:blipFill>
        <p:spPr>
          <a:xfrm>
            <a:off x="1881360" y="714240"/>
            <a:ext cx="1042920" cy="1121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2"/>
          <p:cNvSpPr/>
          <p:nvPr/>
        </p:nvSpPr>
        <p:spPr>
          <a:xfrm>
            <a:off x="0" y="3786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X.  PRESIDENTS  25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4:57:48Z</dcterms:created>
  <dc:creator>JY</dc:creator>
  <dc:description/>
  <dc:language>en-US</dc:language>
  <cp:lastModifiedBy>John</cp:lastModifiedBy>
  <dcterms:modified xsi:type="dcterms:W3CDTF">2008-09-02T20:35:23Z</dcterms:modified>
  <cp:revision>12</cp:revision>
  <dc:subject/>
  <dc:title>Slide 1</dc:title>
</cp:coreProperties>
</file>